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173-0D88-4522-BE67-6931F514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531-BB38-45EE-9619-88F2B42B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E75-9B1F-4BFE-ACDE-310B2592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A8D-2E97-415E-834C-0F06C645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FE7-1D6F-43F2-9155-13986270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A94-9D69-4AA6-BAEB-C2D01DCB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AA48-216A-4D2D-BCB0-CDF37948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9B3-4159-4044-8DE0-8F121BB9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ECF-CAA3-4C12-821C-9129F4C1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8DA-DFA7-4DAC-9021-D93DAA59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B62-1587-4F8A-9436-C1EC3CCB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513-77DF-4ACD-843A-D700B867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4993-DAA5-49E3-BF54-95250C628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612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Mes Vac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268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268280"/>
            <a:ext cx="864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CSE Coursework Planning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write an account of a holiday (150-250 wo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use (at least) 3 tenses (Perfect, Present, Future) (+ Imperfect/Conditional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ive reasons and opi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92360" y="189000"/>
            <a:ext cx="2374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47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341360"/>
            <a:ext cx="2448000" cy="936720"/>
          </a:xfrm>
          <a:prstGeom prst="hexagon">
            <a:avLst>
              <a:gd name="adj" fmla="val 6533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339640" y="981000"/>
            <a:ext cx="1152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304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d es-tu al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(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854440"/>
            <a:ext cx="115272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10920" y="2278080"/>
            <a:ext cx="144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2854440"/>
            <a:ext cx="122256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2278080"/>
            <a:ext cx="216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3068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ec qu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1341360"/>
            <a:ext cx="2447640" cy="936720"/>
          </a:xfrm>
          <a:prstGeom prst="hexagon">
            <a:avLst>
              <a:gd name="adj" fmla="val 6532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1197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148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ent était le voy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1341360"/>
            <a:ext cx="2448000" cy="936720"/>
          </a:xfrm>
          <a:prstGeom prst="hexagon">
            <a:avLst>
              <a:gd name="adj" fmla="val 6533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852640"/>
            <a:ext cx="1224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19280" y="2276640"/>
            <a:ext cx="14436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1640" y="2852640"/>
            <a:ext cx="11509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5080" y="2276640"/>
            <a:ext cx="1429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3068640"/>
            <a:ext cx="93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yen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2997360"/>
            <a:ext cx="8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’est-ce que tu as fa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4508640"/>
            <a:ext cx="1873080" cy="12967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4005360"/>
            <a:ext cx="21564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500720" y="4005360"/>
            <a:ext cx="287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501336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0866200">
            <a:off x="3405600" y="4783320"/>
            <a:ext cx="180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eestyle Script"/>
              </a:rPr>
              <a:t>Vos opin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692280"/>
            <a:ext cx="936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155736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ù est-tu resté(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2852640"/>
            <a:ext cx="12254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156000" y="2276640"/>
            <a:ext cx="144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32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20000" y="2852640"/>
            <a:ext cx="1297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276640"/>
            <a:ext cx="28764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20000" y="3213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4437000"/>
            <a:ext cx="2089440" cy="12970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4005360"/>
            <a:ext cx="21600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235640" y="400536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0866200">
            <a:off x="6140880" y="4638960"/>
            <a:ext cx="180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eestyle Script"/>
              </a:rPr>
              <a:t>Vos opin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59280" y="187200"/>
            <a:ext cx="2447640" cy="936720"/>
          </a:xfrm>
          <a:prstGeom prst="hexagon">
            <a:avLst>
              <a:gd name="adj" fmla="val 6532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3640" y="4762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d es-tu al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é(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1700280"/>
            <a:ext cx="115236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90560" y="1123920"/>
            <a:ext cx="144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4920" y="20588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1700280"/>
            <a:ext cx="122256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1123920"/>
            <a:ext cx="216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19144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ec qu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0" r="52282" b="27764"/>
          <a:stretch/>
        </p:blipFill>
        <p:spPr>
          <a:xfrm>
            <a:off x="2124000" y="3068640"/>
            <a:ext cx="1295640" cy="1440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1760760" cy="160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245360" y="333360"/>
            <a:ext cx="1508040" cy="1511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156360" y="2133720"/>
            <a:ext cx="2425680" cy="1557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140360" y="3284640"/>
            <a:ext cx="1711080" cy="1141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971640" y="4941720"/>
            <a:ext cx="8636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340000" y="5013360"/>
            <a:ext cx="1150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0j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95640" y="4941720"/>
            <a:ext cx="8636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516720" y="5013360"/>
            <a:ext cx="2448000" cy="1440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77080" y="5229360"/>
            <a:ext cx="165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/à</a:t>
            </a:r>
            <a:endParaRPr b="0" lang="en-US" sz="1800" spc="1" strike="noStrike">
              <a:ln w="5724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05080" y="190440"/>
            <a:ext cx="2448000" cy="936720"/>
          </a:xfrm>
          <a:prstGeom prst="hexagon">
            <a:avLst>
              <a:gd name="adj" fmla="val 6533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333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ent était le voy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60720" y="1701720"/>
            <a:ext cx="1224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08000" y="1125360"/>
            <a:ext cx="144360" cy="72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1701720"/>
            <a:ext cx="11509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3800" y="1125360"/>
            <a:ext cx="142920" cy="72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5080" y="191772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yen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5080" y="1846440"/>
            <a:ext cx="8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’est-ce que tu as fa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044800" cy="1042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596360" y="549360"/>
            <a:ext cx="733320" cy="1428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659640" y="2276640"/>
            <a:ext cx="1619280" cy="1618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39640" y="2492280"/>
            <a:ext cx="1752840" cy="1486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84360" y="4581360"/>
            <a:ext cx="2232000" cy="1490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796000" y="4365720"/>
            <a:ext cx="2058840" cy="1544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348000" y="3645000"/>
            <a:ext cx="21477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32000" y="189000"/>
            <a:ext cx="2448000" cy="936360"/>
          </a:xfrm>
          <a:prstGeom prst="hexagon">
            <a:avLst>
              <a:gd name="adj" fmla="val 65359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ù est-tu resté(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1700280"/>
            <a:ext cx="122580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708000" y="1123920"/>
            <a:ext cx="144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06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1700280"/>
            <a:ext cx="129708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61080" y="1123920"/>
            <a:ext cx="287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2060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1600200" cy="1619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1876320" cy="1358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877080" y="2421000"/>
            <a:ext cx="1633680" cy="1633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340000" y="4292640"/>
            <a:ext cx="468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76320">
                  <a:solidFill>
                    <a:srgbClr val="ff0000"/>
                  </a:solidFill>
                  <a:miter/>
                </a:ln>
                <a:solidFill>
                  <a:srgbClr val="33cc33"/>
                </a:solidFill>
                <a:latin typeface="Wingdings"/>
              </a:rPr>
              <a:t>û ü</a:t>
            </a:r>
            <a:endParaRPr b="0" lang="en-US" sz="4400" spc="1" strike="noStrike">
              <a:ln w="76320">
                <a:solidFill>
                  <a:srgbClr val="ff0000"/>
                </a:solidFill>
                <a:miter/>
              </a:ln>
              <a:solidFill>
                <a:srgbClr val="33cc33"/>
              </a:solidFill>
              <a:latin typeface="Wingdings"/>
              <a:ea typeface="Wingding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5:07:41Z</dcterms:created>
  <dc:creator>Administrator</dc:creator>
  <dc:description/>
  <dc:language>en-US</dc:language>
  <cp:lastModifiedBy>Administrator</cp:lastModifiedBy>
  <dcterms:modified xsi:type="dcterms:W3CDTF">2008-09-28T18:39:38Z</dcterms:modified>
  <cp:revision>3</cp:revision>
  <dc:subject/>
  <dc:title>Mes Vacances</dc:title>
</cp:coreProperties>
</file>